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62E90-35A1-4611-86A1-1D6D7FED5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B0F51-BABE-4371-BAA7-564AE3AC3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ACC38-3796-4D0A-8365-49963CD21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A5F61-16B7-4FB4-95E1-1EFAFD6CB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F82C-4354-41C4-80EC-DC60CD82B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196F1-F381-4949-AB13-E0C9B8889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0515-29B6-445E-B6E5-60C2D756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F0C3D-0C28-43BC-9466-3DB03F2E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D74E6-A5BD-408D-A3D2-3E70D111D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8C90-A3E6-4C16-9261-40524C8B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DB61-601E-45CA-B292-3C151CC85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9901-78E3-4E78-990B-03A57110E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E07A-728C-45E3-A44E-EEB04D0274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naging Elections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from the SOS site: The Secretary serves as Chief Election Officer for Texas, assisting county election officials and ensuring the uniform application and interpretation of election laws throughout Texas. The Office of the Secretary of State also provides a repository for official and business and commercial records required to be filed with the Office. The Secretary publishes government rules and regulations and commissions notaries public. The Secretary also serves as keeper of the state seal and attestor to the Governor's signature on official documents. In addition, the Secretary serves as senior advisor and liaison to the Governor for Texas Border and Mexican Affairs, and serves as Chief International Protocol Officer for Tex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overseeing rules on voting, returns of every election for executive offices are sealed by the officials conducting the elections and sent to the Secretary of State who then sends them to the Speaker of the House. </a:t>
            </a:r>
            <a:br>
              <a:rPr sz="3600"/>
            </a:br>
            <a:br>
              <a:rPr sz="3600"/>
            </a:br>
            <a:r>
              <a:rPr b="0" lang="en-US" sz="3600" spc="-1" strike="noStrike">
                <a:solidFill>
                  <a:srgbClr val="000000"/>
                </a:solidFill>
                <a:latin typeface="Calibri"/>
              </a:rPr>
              <a:t>The SOS is charged with keeping all records associated with state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any other things related to state government, election laws are passed by the state, but administered by counties. </a:t>
            </a:r>
            <a:br>
              <a:rPr sz="4000"/>
            </a:br>
            <a:br>
              <a:rPr sz="4000"/>
            </a:br>
            <a:r>
              <a:rPr b="0" lang="en-US" sz="4000" spc="-1" strike="noStrike">
                <a:solidFill>
                  <a:srgbClr val="000000"/>
                </a:solidFill>
                <a:latin typeface="Calibri"/>
              </a:rPr>
              <a:t>The relevant county officials are elected by the qualified voters in the county – so elections are indirectly controlled by the majority in each county across the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manage a website which contains basic information about how to register to vote, where to vote et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retary of State’s Office is headed by an appointee. Texas had had 107 Secretary of States. The first was Stephen F. Austin. The current appointee (as of October 2012) is Hope Andrade and was appointed by Governor Perry in July 2008. Click here for background about her from Ballot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ing elections, it performs a small handful of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rovides information to county officials about how to conduct elections. This includes providing an overview of voting sys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rovides information to candidates and potential candidates about how the rules related to running for office. Some of this is also done through the Texas Ethics Commi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assists in voter registration efforts (Help American Vote Act) as well as educational outreach regarding elections in the state (Projec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y also provide information about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role the state plays in managing elections.</a:t>
            </a:r>
            <a:br>
              <a:rPr sz="4400"/>
            </a:br>
            <a:br>
              <a:rPr sz="4400"/>
            </a:br>
            <a:r>
              <a:rPr b="0" lang="en-US" sz="4400" spc="-1" strike="noStrike">
                <a:solidFill>
                  <a:srgbClr val="000000"/>
                </a:solidFill>
                <a:latin typeface="Calibri"/>
              </a:rPr>
              <a:t>We will look primarily at the Elections’ Division of the Secretary of State’s Office and the Texas Ethics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Contains the official election calendar for the state (2011 - 2012 – 20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lerks and Tax Assess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lerks in the state are responsible for the actual conduction of elections. They serve as the chief election officer in each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Tax Assessors are responsible for overseeing voter regist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General and primary elections are handled differently. The county has more control over general elections, but since primary elections are primarily party functions, these are overseen by the County Chairs of the Democratic and Republican Parties in each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Harris County Clerk’s Election Division.</a:t>
            </a:r>
            <a:br>
              <a:rPr sz="4400"/>
            </a:br>
            <a:br>
              <a:rPr sz="4400"/>
            </a:br>
            <a:r>
              <a:rPr b="0" lang="en-US" sz="4400" spc="-1" strike="noStrike">
                <a:solidFill>
                  <a:srgbClr val="000000"/>
                </a:solidFill>
                <a:latin typeface="Calibri"/>
              </a:rPr>
              <a:t>And here for information about elections in the Brazoria County Clerk’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County Clerks and Tax Assessor are elected to office.</a:t>
            </a:r>
            <a:br>
              <a:rPr sz="4400"/>
            </a:br>
            <a:br>
              <a:rPr sz="4400"/>
            </a:br>
            <a:r>
              <a:rPr b="0" lang="en-US" sz="4400" spc="-1" strike="noStrike">
                <a:solidFill>
                  <a:srgbClr val="000000"/>
                </a:solidFill>
                <a:latin typeface="Calibri"/>
              </a:rPr>
              <a:t>Question: Does this create a conflict of interest? If they are elected as members of political parties, will they be neutral in the application of electoral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how the county officials conduct elections. </a:t>
            </a:r>
            <a:br>
              <a:rPr sz="4400"/>
            </a:br>
            <a:br>
              <a:rPr sz="4400"/>
            </a:br>
            <a:r>
              <a:rPr b="0" lang="en-US" sz="4400" spc="-1" strike="noStrike">
                <a:solidFill>
                  <a:srgbClr val="000000"/>
                </a:solidFill>
                <a:latin typeface="Calibri"/>
              </a:rPr>
              <a:t>What exactly do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Precincts</a:t>
            </a:r>
            <a:br>
              <a:rPr sz="4400"/>
            </a:br>
            <a:br>
              <a:rPr sz="4400"/>
            </a:br>
            <a:r>
              <a:rPr b="0" lang="en-US" sz="3600" spc="-1" strike="noStrike">
                <a:solidFill>
                  <a:srgbClr val="000000"/>
                </a:solidFill>
                <a:latin typeface="Calibri"/>
              </a:rPr>
              <a:t>Each county is divided into a number of electoral precincts. These are the basic unit of government. Everything else is built up from them. Polling places are located in each electoral district, and each political party nominates a precinct chair to oversee the coordination of party activities within that are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to download precinct maps from the Harris County Tax Office.</a:t>
            </a:r>
            <a:br>
              <a:rPr sz="4400"/>
            </a:br>
            <a:br>
              <a:rPr sz="4400"/>
            </a:br>
            <a:r>
              <a:rPr b="0" lang="en-US" sz="4400" spc="-1" strike="noStrike">
                <a:solidFill>
                  <a:srgbClr val="000000"/>
                </a:solidFill>
                <a:latin typeface="Calibri"/>
              </a:rPr>
              <a:t>Brazoria County maps can be accesse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beginning of the republic, the national government has a limited role in conducting elections. </a:t>
            </a:r>
            <a:br>
              <a:rPr sz="4400"/>
            </a:br>
            <a:br>
              <a:rPr sz="4400"/>
            </a:br>
            <a:r>
              <a:rPr b="0" lang="en-US" sz="4400" spc="-1" strike="noStrike">
                <a:solidFill>
                  <a:srgbClr val="000000"/>
                </a:solidFill>
                <a:latin typeface="Calibri"/>
              </a:rPr>
              <a:t>This is delegated to the states – its one of 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ncts are drawn (and redrawn every 10 years) by the commissioners court in each county.</a:t>
            </a:r>
            <a:br>
              <a:rPr sz="4400"/>
            </a:br>
            <a:br>
              <a:rPr sz="3600"/>
            </a:br>
            <a:r>
              <a:rPr b="0" lang="en-US" sz="3600" spc="-1" strike="noStrike">
                <a:solidFill>
                  <a:srgbClr val="000000"/>
                </a:solidFill>
                <a:latin typeface="Calibri"/>
              </a:rPr>
              <a:t>Section 42 of the Texas Election Code covers precincts. Section 171.023 covers precinct chai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ions is each precinct are overseen by Election Judges. These people are responsible for conducting all aspects of the election on election day. This includes equipment set-up, resolving controversies concerning eligibility, and ballot counting.</a:t>
            </a:r>
            <a:br>
              <a:rPr sz="3200"/>
            </a:br>
            <a:br>
              <a:rPr sz="3200"/>
            </a:br>
            <a:r>
              <a:rPr b="0" lang="en-US" sz="3200" spc="-1" strike="noStrike">
                <a:solidFill>
                  <a:srgbClr val="000000"/>
                </a:solidFill>
                <a:latin typeface="Calibri"/>
              </a:rPr>
              <a:t>- Read How to Become and Election Judge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2 of the Electoral Code covers the appointment of election and alternative judges.</a:t>
            </a:r>
            <a:br>
              <a:rPr sz="4400"/>
            </a:br>
            <a:br>
              <a:rPr sz="3600"/>
            </a:br>
            <a:r>
              <a:rPr b="0" lang="en-US" sz="3600" spc="-1" strike="noStrike">
                <a:solidFill>
                  <a:srgbClr val="000000"/>
                </a:solidFill>
                <a:latin typeface="Calibri"/>
              </a:rPr>
              <a:t>The selection of the election judge is up to the county commissioners court and the judge in a precinct is generally a member of the party whose gubernatorial candidate got the most votes in that precinct in the previous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xpected that the election judge is knowledgeable about how elections are conducted, the nature of election rules in the state, and is good at conflict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ering Voters and Managing Voter Ro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Assessors office processes registration applications.</a:t>
            </a:r>
            <a:br>
              <a:rPr sz="4400"/>
            </a:br>
            <a:br>
              <a:rPr sz="4400"/>
            </a:br>
            <a:r>
              <a:rPr b="0" lang="en-US" sz="4400" spc="-1" strike="noStrike">
                <a:solidFill>
                  <a:srgbClr val="000000"/>
                </a:solidFill>
                <a:latin typeface="Calibri"/>
              </a:rPr>
              <a:t>Click here for the relevant office in Harris County, and Brazoria County (sort o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ection 13 in the Texas Election Code which covers voter regist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Ethics Commi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previously, the Texas Ethics Commission was created in 1991 – it was approved by the voters in a constitutional amendment. It has a variety of functions related to funding, salaries, and any issue that can create a conflict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SHA: As a consequence of the amendment, the TEC “assumed the secretary of state's duties on advisory opinions, lobbyist registration and expenditures, and review of campaign spending and contributions. All reports became computerized and cross-referenced with access by the public on January 1, 199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previous discussions, the national government – through the equal protection clause and the amendments expanding suffrage – have been able to oversee and negate state laws. </a:t>
            </a:r>
            <a:br>
              <a:rPr sz="3200"/>
            </a:br>
            <a:br>
              <a:rPr sz="3200"/>
            </a:br>
            <a:r>
              <a:rPr b="0" lang="en-US" sz="3200" spc="-1" strike="noStrike">
                <a:solidFill>
                  <a:srgbClr val="000000"/>
                </a:solidFill>
                <a:latin typeface="Calibri"/>
              </a:rPr>
              <a:t>There’s ongoing tension between Texas and the national government over th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C is composed of “an eight-member commission with four members appointed by the governor and two members each by the lieutenant governor and the speaker of the Texas House of Representatives.” Each serves a four year over-lapping term. </a:t>
            </a:r>
            <a:br>
              <a:rPr sz="3600"/>
            </a:br>
            <a:br>
              <a:rPr sz="3600"/>
            </a:br>
            <a:r>
              <a:rPr b="0" lang="en-US" sz="3600" spc="-1" strike="noStrike">
                <a:solidFill>
                  <a:srgbClr val="000000"/>
                </a:solidFill>
                <a:latin typeface="Calibri"/>
              </a:rPr>
              <a:t>It is headed by an executive director appointed by the commis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ull list of constitutional and statutory dutie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es about the TEC from the Texas Tribune can be foun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torically, few states had any laws in place governing campaign contributions. This led to accusations – and convictions – of bribery and other influence peddling activities.</a:t>
            </a:r>
            <a:br>
              <a:rPr sz="3600"/>
            </a:br>
            <a:br>
              <a:rPr sz="3600"/>
            </a:br>
            <a:r>
              <a:rPr b="0" lang="en-US" sz="3600" spc="-1" strike="noStrike">
                <a:solidFill>
                  <a:srgbClr val="000000"/>
                </a:solidFill>
                <a:latin typeface="Calibri"/>
              </a:rPr>
              <a:t>We tend to like candidates for office not to be controlled by wealthy backers. We also tend to like to know who is contributing money to who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aws requires that candidates provide personal financial statements, issue campaign contribution reports and appoint campaign treasurers.</a:t>
            </a:r>
            <a:br>
              <a:rPr sz="3600"/>
            </a:br>
            <a:br>
              <a:rPr sz="3600"/>
            </a:br>
            <a:r>
              <a:rPr b="0" lang="en-US" sz="3600" spc="-1" strike="noStrike">
                <a:solidFill>
                  <a:srgbClr val="000000"/>
                </a:solidFill>
                <a:latin typeface="Calibri"/>
              </a:rPr>
              <a:t>The TEC manages this information and makes it available to the 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orms and instructions for candidates and officeholders regarding thes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interested, here’s video training for campaign finance repor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 financial statements can be filed here, and they can be searche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aign finance reports can be filed here, and searche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is responsible for passing the laws which govern how elections are conducted in the state. Once passed these are codified and added to the Texa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 management of state elections are overseen by the Elections Division of the Texas Secretary of State’s office, which is established in the Texas Constitution if you recall. </a:t>
            </a:r>
            <a:br>
              <a:rPr sz="3600"/>
            </a:br>
            <a:br>
              <a:rPr sz="3600"/>
            </a:br>
            <a:r>
              <a:rPr b="0" lang="en-US" sz="3600" spc="-1" strike="noStrike">
                <a:solidFill>
                  <a:srgbClr val="000000"/>
                </a:solidFill>
                <a:latin typeface="Calibri"/>
              </a:rPr>
              <a:t>Cities manage their own elections, but their laws have to be inline with those of both the state and n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retary of States’ office is established in Article IV, Section 21 (it is part of the executive branch), but that section does not state any specific role for the office in elections. Other sections do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Section 21 does state that the Secretary of State is appointed by the Governor, by and with the advice and consent of the Senate, and serves the same term as the Govern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SOS website: The Elections Division is responsible for administering the Texas Election Code, the "law of the land" for Texas voters, elections, voting systems, candidates, and political parties. The Elections Division also maintains more than 11 million voter registration records on behalf of the State. </a:t>
            </a:r>
            <a:br>
              <a:rPr sz="2800"/>
            </a:br>
            <a:br>
              <a:rPr sz="2800"/>
            </a:br>
            <a:r>
              <a:rPr b="0" lang="en-US" sz="2800" spc="-1" strike="noStrike">
                <a:solidFill>
                  <a:srgbClr val="000000"/>
                </a:solidFill>
                <a:latin typeface="Calibri"/>
              </a:rPr>
              <a:t>To educate future Texas voters, the Division administers Project V.O.T.E. (Voters of Tomorrow through Education). Project V.O.T.E. is a curriculum taught to students K - 12 throughout Texas to educate young Texans about the electoral process and to encourage them to vote in the fu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1T14:37:59Z</dcterms:created>
  <dc:creator>Kevin Jefferies</dc:creator>
  <dc:description/>
  <dc:language>en-US</dc:language>
  <cp:lastModifiedBy>Kevin Jefferies</cp:lastModifiedBy>
  <dcterms:modified xsi:type="dcterms:W3CDTF">2012-10-28T22:58:21Z</dcterms:modified>
  <cp:revision>78</cp:revision>
  <dc:subject/>
  <dc:title>GOVT 2306</dc:title>
</cp:coreProperties>
</file>